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4FB-6C0E-4B2B-B997-C2A37ED9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A5E-8FD7-48BE-A705-A195FA5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E48-F066-42FF-9378-280DFA12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6D1-B8F4-4A6A-A9C8-8873A564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23A9-1263-4787-BDC3-D5FB6F54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7C4-0BF6-4C8D-B252-5D44B09E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144-9EC8-41A5-AA63-84FC7FB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8056-4339-4A7A-94C3-A3DC7CC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E394-53B1-4E2B-A1E8-91188AC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C71-42E5-476A-9D65-B8034EB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A7FB-C711-4D7F-8340-26441B28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6FC-7BF4-47B3-8443-7DCC632B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3CEC-3946-41FA-802D-E428748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994B-D83C-4E0A-BF58-C9AEF24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49DB-B83C-44BE-9B71-B6CE8AB3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AEB4-AD19-4515-87FE-4BA082F0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07EF-6821-4518-891D-1EB459A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8CA-DC3E-40BD-9418-2847D6A6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BC5-5A9A-4C91-A49F-6D63FA40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9C7-8310-4F78-AC04-4866244B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9F8-D82B-4E5D-B127-4AD032EF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46B-2EC6-4436-B5D2-46F763A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202-7C07-4594-AD4D-04123EB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739-1590-4D59-A7D7-66FDD59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1d90b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7CD-F827-48B5-8285-9947C3BBF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90b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554B-5241-4434-A8D8-E0E4427A16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1d9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1d90b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6933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90b9"/>
                </a:solidFill>
                <a:latin typeface="Arial"/>
              </a:rPr>
              <a:t>Creating Executable Programs </a:t>
            </a:r>
            <a:br>
              <a:rPr sz="3600"/>
            </a:br>
            <a:r>
              <a:rPr b="1" lang="en-US" sz="3600" spc="-1" strike="noStrike">
                <a:solidFill>
                  <a:srgbClr val="1d90b9"/>
                </a:solidFill>
                <a:latin typeface="Arial"/>
              </a:rPr>
              <a:t>on the Mainframe</a:t>
            </a:r>
            <a:r>
              <a:rPr b="1" lang="en-US" sz="4800" spc="-1" strike="noStrike">
                <a:solidFill>
                  <a:srgbClr val="6699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January 2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770-3E0C-4982-AB36-08018262AB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3809880"/>
            <a:ext cx="754380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7200" y="3506760"/>
            <a:ext cx="8460360" cy="21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MM01P    JOB  (36512),'A PRINCE',NOTIFY=&amp;SYS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EP1    EXEC PGM=IEBG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PRINT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1   DD   DSN=MM01.COPYLIB.COBOL(CUSTMAST),DISP=S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2  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IN    DD  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676520"/>
            <a:ext cx="776952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 statement identifies the program or procedure to be executed in the job step. It can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ep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name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90b9"/>
                </a:solidFill>
                <a:latin typeface="Tahoma"/>
              </a:rPr>
              <a:t>The “EXEC”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968-F445-40F1-BAAB-B7DD68504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8080" y="4800600"/>
            <a:ext cx="792504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114800"/>
            <a:ext cx="8429760" cy="239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MM01P    JOB  (36512),'A PRINCE',NOTIFY=&amp;SYS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EP1    EXEC PGM=IEBG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PRINT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1   DD   DSN=MM01.COPYLIB.COBOL(CUSTMAST),DISP=S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2  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IN    DD  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143000"/>
            <a:ext cx="77695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D statement allocates the data sets required by the program or procedure.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d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name field must be the same as the one that’s used in the program or procedu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typically code the DD statement for a printer file using the SYSOUT = * format. Then, the output is processed based on the default output class or the output class you specify in the MSGCLASS parameter of the JOB state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can specify a dummy data set by coding the DUMMY parameter on its DD stat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90b9"/>
                </a:solidFill>
                <a:latin typeface="Tahoma"/>
              </a:rPr>
              <a:t>The “DD”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18E-406A-482E-8FE4-47CBCE7EA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04920" y="838080"/>
          <a:ext cx="811980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11980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FDA-68B5-47DC-8B37-C8DDFB6C36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4920" y="457200"/>
          <a:ext cx="7959600" cy="58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7959600" cy="58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4E5-1AD4-4DBB-BBB2-2C24B693BC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609480"/>
          <a:ext cx="787068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87068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F37-E16E-4B8B-B85A-C6B4AC553D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28600" y="1295280"/>
          <a:ext cx="8145360" cy="54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14536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2AE-2C91-4956-8FF8-37A8E24312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33520" y="304920"/>
          <a:ext cx="814392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814392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454-0BF9-4428-A1E0-27AAE29F9C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228600"/>
          <a:ext cx="8094960" cy="75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094960" cy="75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5BA-C1D6-4D03-A1C6-561247EC0F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28480" y="384120"/>
          <a:ext cx="7853400" cy="602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384120"/>
                    <a:ext cx="78534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295-8905-4B84-8890-A9657BBF69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- Status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92468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4F9-C10F-4077-9BA2-0B521EF7D5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ecture Overview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execution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S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iling and exec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 1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tch and online m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ing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ing/debugging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142-27C5-4CC5-BC0E-CAF25F896F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- Owner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811160"/>
            <a:ext cx="777240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DC6-2C05-49F0-91F4-46FE9D0B9B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– Select Job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792468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849-65A5-4CA0-B447-E6DD370B8B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SDSF – View Output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0100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476-0EF9-47D4-8916-C349F777AF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7200" y="457200"/>
          <a:ext cx="7775640" cy="67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777564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217-CFBB-4738-BF0D-C6D906C9BE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463680" y="608040"/>
          <a:ext cx="8286480" cy="49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608040"/>
                    <a:ext cx="828648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71A-A401-4A20-ABF9-5FDF066775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57200" y="990720"/>
          <a:ext cx="8521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521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24F-8CDA-46BB-BA30-7A07F525F7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ile, link and run a “Hello World” Cobol applic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/Run the program using JC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the program in Batch and online (TSO) m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3 P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data set for the cobol program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xx.HELLO.COB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data set for the the JCL to compile/run the program: xxx.HELLO.JC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data set for the resulting executable: xxx.HELLO.LO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where ‘XXX’ is your User 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A63-64A7-4319-A4A2-151F663DFA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COBOL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the source code “Hello World” Cobol example: xxx.HELLO.COBOL(FIR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ould be done using ISPF. Note that the line numbers are created/updated automa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27E-73B0-4EFA-8668-B080DFA5D1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Cobol Program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094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09480" y="1828800"/>
          <a:ext cx="769644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37E-6205-455B-AB27-FB076FE495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JCL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the JCL used to compile/link/run the hello world exampl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be in the JCL PDS: XXX.HELLO.JCL(COMP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611-382B-4506-92B5-5F7574E601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d90b9"/>
                </a:solidFill>
                <a:latin typeface="Arial"/>
              </a:rPr>
              <a:t>Example: Compile/Execution Structure</a:t>
            </a:r>
            <a:endParaRPr b="1" lang="en-US" sz="31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352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276720"/>
            <a:ext cx="1371600" cy="1066680"/>
          </a:xfrm>
          <a:prstGeom prst="rect">
            <a:avLst/>
          </a:prstGeom>
          <a:solidFill>
            <a:srgbClr val="1d90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pi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3276720"/>
            <a:ext cx="1371600" cy="106668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ec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3B5-5019-4F5C-A90E-0F0D14C967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- JCL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91440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600200"/>
          <a:ext cx="7581960" cy="50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758196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441-672A-4762-A54C-1A133C4D1D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– Execute (Batch)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38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ecute the JCL – from within ISPF (when editing the JCL), enter the command ‘submit’ on the command lin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ka the line that has “Command ===&gt;”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EP 5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ew the results from executing the JCL. From the top level in ISP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command 13 (SDSF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 (to view output from the batch job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Filter based on owner (your account id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be able to see the output “MYHELLO” – that was the name of the JOB (you can see this in the JC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iew the output, one would enter an “?” in the left column prior to the name of the output. This will show the different “tasks in the JC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o see the actual output, enter a “s” next to the output you want to view (Hint: Look at the “GO”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126-FF13-46C8-9A5A-128D1807E5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d90b9"/>
                </a:solidFill>
                <a:latin typeface="Arial"/>
              </a:rPr>
              <a:t>Lab 1c – Execute (TSO)</a:t>
            </a:r>
            <a:endParaRPr b="1" lang="en-US" sz="3900" spc="-1" strike="noStrike">
              <a:solidFill>
                <a:srgbClr val="1d90b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38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e using T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1d90b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Using ISPF “command” -  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OCATE DDNAME(SYSOUT) DSNAME(*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OCATE DDNAME(SYSIN) DSNAME(*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LL ’xxx.HELLO.LOAD(FIRST)'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8E3-4C01-47AE-80BE-968CFFFBDF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990720" y="533520"/>
          <a:ext cx="786132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8613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FED-F1A2-491B-9613-F02B23D74A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62120" y="380880"/>
          <a:ext cx="5973480" cy="49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59734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155600" y="1060560"/>
            <a:ext cx="671832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D1D-499A-4FD3-967B-82F18A9205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304920" y="762120"/>
          <a:ext cx="816768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16768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6A7-93DE-4DD7-B1A5-348553FD6E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838080" y="457200"/>
          <a:ext cx="78804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78804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162080" y="1082520"/>
            <a:ext cx="6711840" cy="48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1B5-9AB8-49B2-8897-DC7BF67D8D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" y="152280"/>
          <a:ext cx="797868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79786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D0B-3D98-4957-94F3-AC084A4B91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609480" y="762120"/>
          <a:ext cx="7793280" cy="359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77932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665-6AC9-4CEA-B834-2B05F280D9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457200" y="304920"/>
          <a:ext cx="8062920" cy="55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06292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165320" y="762120"/>
            <a:ext cx="6467400" cy="47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50C-C78C-4474-AFD7-323FD17EB5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d90b9"/>
                </a:solidFill>
                <a:latin typeface="Arial"/>
              </a:rPr>
              <a:t>Program Execution Components</a:t>
            </a:r>
            <a:endParaRPr b="1" lang="en-US" sz="3500" spc="-1" strike="noStrike">
              <a:solidFill>
                <a:srgbClr val="1d90b9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4920" y="2133720"/>
            <a:ext cx="8533800" cy="3696840"/>
            <a:chOff x="304920" y="2133720"/>
            <a:chExt cx="8533800" cy="3696840"/>
          </a:xfrm>
        </p:grpSpPr>
        <p:grpSp>
          <p:nvGrpSpPr>
            <p:cNvPr id="165" name=""/>
            <p:cNvGrpSpPr/>
            <p:nvPr/>
          </p:nvGrpSpPr>
          <p:grpSpPr>
            <a:xfrm>
              <a:off x="304920" y="2133720"/>
              <a:ext cx="6857280" cy="3696840"/>
              <a:chOff x="304920" y="2133720"/>
              <a:chExt cx="6857280" cy="369684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920" y="287280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BO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25200" y="347796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1d90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C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920" y="408276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py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brari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83800" y="3343680"/>
                <a:ext cx="94140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1783800" y="4015440"/>
                <a:ext cx="94140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3320" y="347796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ad Mo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04080" y="3948480"/>
                <a:ext cx="147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8400" y="5225760"/>
                <a:ext cx="671760" cy="604800"/>
              </a:xfrm>
              <a:prstGeom prst="can">
                <a:avLst>
                  <a:gd name="adj" fmla="val 25000"/>
                </a:avLst>
              </a:prstGeom>
              <a:solidFill>
                <a:srgbClr val="66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464640" y="4419000"/>
                <a:ext cx="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92160" y="2133720"/>
                <a:ext cx="1277280" cy="739080"/>
              </a:xfrm>
              <a:prstGeom prst="roundRect">
                <a:avLst>
                  <a:gd name="adj" fmla="val 16667"/>
                </a:avLst>
              </a:prstGeom>
              <a:solidFill>
                <a:srgbClr val="7e9c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ther COBO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gra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64640" y="2872800"/>
                <a:ext cx="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83320" y="4889520"/>
                <a:ext cx="1478880" cy="941040"/>
              </a:xfrm>
              <a:prstGeom prst="roundRect">
                <a:avLst>
                  <a:gd name="adj" fmla="val 16667"/>
                </a:avLst>
              </a:prstGeom>
              <a:solidFill>
                <a:srgbClr val="1d90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C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execut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ad modu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422760" y="4419000"/>
                <a:ext cx="0" cy="47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07120" y="3746880"/>
                <a:ext cx="1006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re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696080" y="2819520"/>
              <a:ext cx="1142640" cy="2971800"/>
            </a:xfrm>
            <a:custGeom>
              <a:avLst/>
              <a:gdLst>
                <a:gd name="textAreaLeft" fmla="*/ 55440 w 1142640"/>
                <a:gd name="textAreaRight" fmla="*/ 1087200 w 1142640"/>
                <a:gd name="textAreaTop" fmla="*/ 55440 h 2971800"/>
                <a:gd name="textAreaBottom" fmla="*/ 2916360 h 2971800"/>
              </a:gdLst>
              <a:ahLst/>
              <a:rect l="textAreaLeft" t="textAreaTop" r="textAreaRight" b="textAreaBottom"/>
              <a:pathLst>
                <a:path w="21600" h="56167">
                  <a:moveTo>
                    <a:pt x="3600" y="0"/>
                  </a:moveTo>
                  <a:arcTo wR="3600" hR="3600" stAng="16200000" swAng="-5400000"/>
                  <a:lnTo>
                    <a:pt x="0" y="52567"/>
                  </a:lnTo>
                  <a:arcTo wR="3600" hR="3600" stAng="10800000" swAng="-5400000"/>
                  <a:lnTo>
                    <a:pt x="18000" y="56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S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162560" y="4419720"/>
              <a:ext cx="533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9080" y="4375440"/>
              <a:ext cx="1523520" cy="622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90760" y="4724640"/>
              <a:ext cx="1142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 be in the same JC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C4A-FD44-4BFF-8B5E-2D1F2002D3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85800" y="380880"/>
          <a:ext cx="813420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813420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F4C-13AE-4467-A538-84AD80F717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990720" y="990720"/>
          <a:ext cx="7885080" cy="313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88508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6DD-FB07-47D5-94E4-15D15F295B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80880" y="1066680"/>
          <a:ext cx="8182080" cy="49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1820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738-30EC-414F-A81B-2756A3A79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685800"/>
          <a:ext cx="7886880" cy="72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788688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BA0-415E-40BB-B0F3-830C73FC1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80880" y="946080"/>
          <a:ext cx="795996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795996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19320" y="2604960"/>
          <a:ext cx="5975280" cy="31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604960"/>
                    <a:ext cx="597528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324160" y="2604960"/>
          <a:ext cx="5975280" cy="319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4160" y="2604960"/>
                    <a:ext cx="597528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4280" y="2055960"/>
          <a:ext cx="5975280" cy="318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280" y="2055960"/>
                    <a:ext cx="597528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22680" y="2603520"/>
          <a:ext cx="5589720" cy="304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2680" y="2603520"/>
                    <a:ext cx="55897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240-9097-45AB-A7C4-8E19568EA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228600"/>
          <a:ext cx="8024760" cy="814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024760" cy="81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376-FF82-4D5E-87A2-ABD595334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38080" y="3505320"/>
            <a:ext cx="754380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9000" y="3276720"/>
            <a:ext cx="8460360" cy="21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MM01P    JOB  (36512),'A PRINCE',NOTIFY=&amp;SYS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TEP1    EXEC PGM=IEBG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PRINT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1   DD   DSN=MM01.COPYLIB.COBOL(CUSTMAST),DISP=S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UT2   DD   SYSOUT=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SYSIN    DD  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295280"/>
            <a:ext cx="776916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B statement must be the first statement in a job. It suppli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b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dentify the job, along with accounting information and various options that affect how the job is proc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90b9"/>
                </a:solidFill>
                <a:latin typeface="Tahoma"/>
              </a:rPr>
              <a:t>The “JOB”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186-FBB5-45C6-A8AC-843F534AB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2:36:31Z</dcterms:created>
  <dc:creator>Tom Murach</dc:creator>
  <dc:description/>
  <dc:language>en-US</dc:language>
  <cp:lastModifiedBy>Noah Pascarell</cp:lastModifiedBy>
  <dcterms:modified xsi:type="dcterms:W3CDTF">2009-01-20T23:12:08Z</dcterms:modified>
  <cp:revision>43</cp:revision>
  <dc:subject/>
  <dc:title>No Slide Title</dc:title>
</cp:coreProperties>
</file>